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96603"/>
        <c:axId val="96756124"/>
      </c:barChart>
      <c:catAx>
        <c:axId val="64796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56124"/>
        <c:crosses val="autoZero"/>
        <c:auto val="1"/>
        <c:lblAlgn val="ctr"/>
        <c:lblOffset val="100"/>
        <c:noMultiLvlLbl val="0"/>
      </c:catAx>
      <c:valAx>
        <c:axId val="96756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96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BDD0-DC8A-42FE-806D-66F497CE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B2F-0097-441B-B149-E32D0F4E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667-81E8-481D-8FAD-070D9136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208-6942-41C8-AED0-BFA7CCAC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13B-2F57-4ACA-9E38-A71C887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1B2-C25B-4C60-B611-655ACA0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3D6-C876-4359-932B-15B000EA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316-6EEA-4E2D-83F4-B2E2B610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284-55B9-411E-8536-5F605E82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341-EB48-4587-BB0F-383B2395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97D-235F-40E8-887E-38EBDB1B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81B-8FF1-4BE5-BC6B-EA4436B3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2E4E9-96EB-4FD8-A9A3-35E04AE0B3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