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469229"/>
        <c:axId val="3241044"/>
      </c:barChart>
      <c:catAx>
        <c:axId val="4046922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1044"/>
        <c:crosses val="autoZero"/>
        <c:auto val="1"/>
        <c:lblAlgn val="ctr"/>
        <c:lblOffset val="100"/>
        <c:noMultiLvlLbl val="0"/>
      </c:catAx>
      <c:valAx>
        <c:axId val="32410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46922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8E6F-A7B7-46CF-86BB-22324DFE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88EE-92E4-4149-B863-666709050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C520-F54A-4E6B-BCAA-47D9E32B1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EE6D-AC5B-4CB7-A658-9CF84D9F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2DA9-6165-4E35-B31E-7C93AEB5F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6BC3-C30A-4422-9C25-48AC2F4A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BEB7-3D57-49EB-82A1-D62C2699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3EEE-611E-4BCE-BE61-8E6D1CD95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984-B22D-4692-8E0C-5A45CCD0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D2BB-73B5-4388-BFC1-26972EC32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76B-FD92-439A-AB17-B67A3CA1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58CE-18CD-4EDB-9138-51940FCA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CDEA00-F0FB-4F0E-A755-9730A7698A4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