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440524"/>
        <c:axId val="70761318"/>
      </c:barChart>
      <c:catAx>
        <c:axId val="294405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761318"/>
        <c:crosses val="autoZero"/>
        <c:auto val="1"/>
        <c:lblAlgn val="ctr"/>
        <c:lblOffset val="100"/>
        <c:noMultiLvlLbl val="0"/>
      </c:catAx>
      <c:valAx>
        <c:axId val="707613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4405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AB47-5654-4807-AB88-29A532E9D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C64F-3C4B-4D0E-BF41-B0B085E87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060E-C909-4AE9-9DC8-5A49CE529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71A4-D575-488D-A670-81CA1D706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D9AD-105B-40ED-90EF-06FA920C9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984E-7DF4-4680-804C-8F130DABC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23D7-CA5F-4EDE-A804-925489609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228F-7D44-4BA8-BE69-C1534780A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6B2C-AB95-4A6F-A4E8-EFAEC393E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FCC7-F81B-4677-8C1E-43164343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484A-3B33-4BCD-9C11-19F36E74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80EE-9498-4114-8D25-32B6D85DA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6BAD2D-C41B-4F6D-A7AE-F573A64BB58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