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01376"/>
        <c:axId val="45514130"/>
      </c:barChart>
      <c:catAx>
        <c:axId val="896013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14130"/>
        <c:crosses val="autoZero"/>
        <c:auto val="1"/>
        <c:lblAlgn val="ctr"/>
        <c:lblOffset val="100"/>
        <c:noMultiLvlLbl val="0"/>
      </c:catAx>
      <c:valAx>
        <c:axId val="455141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013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24E6-0FEE-4540-8F75-2AEF2B13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930D-FCB7-49E6-914C-F1AB76DB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3097-7647-4465-9DF8-527A56EC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1F1D-46FF-4F33-9B09-CDBFF77C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16A9-3E9D-480D-84F9-6AA84222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79A3-2CB0-47FE-A6B6-C428C7EA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73F-0458-49E5-8F46-980A9747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0001-F278-4C88-A917-CD0AC767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D582-5840-48C0-B4D3-7AB7EC7B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031-416A-46ED-AEDE-0578A77A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C84-06A0-4F3F-B4A8-2647B304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3018-84DF-4D9D-B502-E97D107B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B250B-E265-47C7-97B6-626F9B0075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